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DA1-E8AB-47F0-9B0B-C3F59346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DBB-2207-4396-AFDF-FB402432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ECC-4B9B-42DC-BFC7-AF062C38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B90-D030-4D1C-B914-12FA3012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6E97-B390-47BE-B8F3-4C791180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50C8-E2AA-4E7B-B770-8E69FF15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6A28-8591-4CAF-A1C1-31AB975A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6AEF-6AB3-466B-BF9A-8DA28E55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F171-621E-4094-A57E-9850D47F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D1B5-58B4-48E0-9066-6A2FCB92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F3F9-00A5-4FF5-9F9C-008B76C1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F6A-5332-4304-90F0-9C3DB2A5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6AB3-EE5B-4458-A060-29B9A957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39E2-7D60-4D82-9EDE-C7FF92F6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94DB-5D88-4506-A4FB-1D9AD42E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040A-3362-4867-A1C3-6F177C3B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DB31-2A5B-4CB1-8678-6193946B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ED2-A6BA-4E13-9075-9D973692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0D7-B3F5-4E80-81DC-BE1067F0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D7FF-8B4E-4A29-91BC-56AB733A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14E-8E76-47C3-8E9A-2B765706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797-980E-4785-B783-C3DF7029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207-2A27-4E79-8F2D-BD441A4B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9B5-F00A-442E-A7FB-EFE998F0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93F9-D843-4675-9E8F-F2E64486571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FE40-7917-458D-BF52-697A6F48CB6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FD47-99C5-49F0-A558-6AAA8708147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and </a:t>
            </a: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Maintain 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Reference List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o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not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call it a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Bibliograph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Academic honesty demands i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Not to document is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plagiarism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Gives access to your sources.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Reader verify and follow-up easi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2339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Use quality sources; quote wisely.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Adds value and author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371600"/>
            <a:ext cx="8534160" cy="4800600"/>
          </a:xfrm>
          <a:prstGeom prst="roundRect">
            <a:avLst>
              <a:gd name="adj" fmla="val 16667"/>
            </a:avLst>
          </a:prstGeom>
          <a:noFill/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F5CA-6DA4-401B-9711-B0461EE6957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&amp;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br>
              <a:rPr sz="4000"/>
            </a:b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F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RMATTING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Use 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Style Guid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 Be consiste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5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MLA and APA are two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authoritie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Alphabetize and double-space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Indent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second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line. Do not numb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Integrate all sources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Make </a:t>
            </a:r>
            <a:r>
              <a:rPr b="1" lang="en-US" sz="4000" spc="-1" strike="noStrike">
                <a:solidFill>
                  <a:srgbClr val="ffcc00"/>
                </a:solidFill>
                <a:latin typeface="Arial Rounded MT Bold"/>
              </a:rPr>
              <a:t>one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alphabetized l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76520"/>
            <a:ext cx="8534160" cy="4495680"/>
          </a:xfrm>
          <a:prstGeom prst="roundRect">
            <a:avLst>
              <a:gd name="adj" fmla="val 16667"/>
            </a:avLst>
          </a:prstGeom>
          <a:noFill/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ED9F-52D9-4494-A938-D0827ACC76F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&amp;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br>
              <a:rPr sz="4000"/>
            </a:b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I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NTERNET &amp; 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O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THER 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E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-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S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URC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Basic information the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Author, title, place, d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Unique features includ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Uniform Resource Locator (URL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ate accesse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Some info may not be availabl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Cite what you can fi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676520"/>
            <a:ext cx="8534160" cy="4419360"/>
          </a:xfrm>
          <a:prstGeom prst="roundRect">
            <a:avLst>
              <a:gd name="adj" fmla="val 16667"/>
            </a:avLst>
          </a:prstGeom>
          <a:noFill/>
          <a:ln cap="sq"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B4E6-C5D7-490C-88D7-2185DD0D6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Bailey, Sue. “Critics: Stats on Shelters Are Misleading.” 5 Nov. 2002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anoe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NEWS: News Ticker National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7 Nov. 2002 &lt;http://www. Cnews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anoe.ca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Beckwith, J.  "Glenn Gould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he New Grove Dictionary of Music and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Musician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Ed. Stanley  Sadie. Vol. 7. London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acMillan, 1989. 579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anadian Broadcasting Corporation.  "Down on the Farm: Crisis in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Agriculture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CBC TVNews-In-Review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Videocassette. CBC, Feb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1999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A976-EDB7-49F3-A88C-E43BCAD77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onservationists Push to Save Polar Bears.” 5 Nov. 2002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BC News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Onlin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6 Nov. 2002 &lt;http://www.cbc.ca/stories/ 2002/11/05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polar_bears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rook, Connie Brummel. "Writing historical fiction."  E-mail to the author.  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1 June 2002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Davison, Peter. "Ecotourism Can Help Preserve The Rainforest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Global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Warming: Opposing Viewpoint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 Ed. David Bender.  San Dieg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Greenhaven, 1999.  171-7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7632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BA7D-5ECE-4946-9001-AFF88A4C4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Doob, Anthony.  "Youth Justice Publications into Research in Canada: An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Assessment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anadian Journal of Criminolog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Apr. 1999: 217+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EBSCOhost 3.1, Peel District School Board, Mississauga, ON. 20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July 1999 &lt;http://epnet.com/ ehost/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Frizzell, Alan, and Jon H. Pammett, ed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Shades of Green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Environmental Attitudes in Canada and Around the World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Richmond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arleton UP, 1997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Govier, Katherine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A Medley of Canadian poets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im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5 Jul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1999,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anadian ed.: 50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C68C-7DCB-4298-ADC6-80FE49F440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Hardware:PlayStation 2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PlayStatio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7 Nov. 2002. &lt;http://us.playstation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om/hardware/PS2/SCPH-30001.asp&gt;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Haworth-Attard, Barbara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Irish Chain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Toronto: Harper Collins,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2002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Hughes, Monica. Home page. 7 Nov. 2002 http://www.ecn.ab.ca/ ughes/&gt;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Jane Austen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Great Writers of the English Languag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 Vol. 8. Toront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arshall Cavendish, 1989.  5-2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Julie Payette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Canadian Geographic Explorer: An Interactive Journe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Around Canada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CD-ROM. IQ Media, 1997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cClelland, Susan.  "Users Beware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‘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Quack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’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Sites Lurk Among Man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Good Internet Health Links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Maclean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’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21 June 1999:  5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F442-030A-4815-B3B6-0AABB6258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524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3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Nye, Bill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"The Suns: The Planet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Bill Nye: The Science Gu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Videocassette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Magic Lantern. 2000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바탕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3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Shelley, Mary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Frankenstei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1818. Toronto: Penguin, 1994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Skreslet, Laurie and Elizabeth McLeod.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To the Top of Everest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Toront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Kids Can, 2001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Sly, P.G. "Great Lake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he 1998 Canadian &amp; World Encyclopedia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CD-ROM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Toronto: McLelland &amp; Stewart. 199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Stewart, Garrett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Lewis, C.S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World Book Online Americas Editio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2002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World Book. 7 Nov. 2002 &lt;http://www.worldbookonline.com/wbol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wbAuth/sp./wbarticle.jsp&gt;.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  <a:ea typeface="바탕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7632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21:07:12Z</dcterms:created>
  <dc:creator>Sya VanGeest</dc:creator>
  <dc:description/>
  <dc:language>en-US</dc:language>
  <cp:lastModifiedBy>KIGCIRC</cp:lastModifiedBy>
  <dcterms:modified xsi:type="dcterms:W3CDTF">2003-11-13T12:43:39Z</dcterms:modified>
  <cp:revision>42</cp:revision>
  <dc:subject/>
  <dc:title>Why a Research Model?</dc:title>
</cp:coreProperties>
</file>